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gif" ContentType="image/gif"/>
  <Override PartName="/ppt/media/image46.jpeg" ContentType="image/jpeg"/>
  <Override PartName="/ppt/media/image53.jpeg" ContentType="image/jpeg"/>
  <Override PartName="/ppt/media/image50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2.png" ContentType="image/png"/>
  <Override PartName="/ppt/media/image40.jpeg" ContentType="image/jpeg"/>
  <Override PartName="/ppt/media/image10.png" ContentType="image/png"/>
  <Override PartName="/ppt/media/image1.jpeg" ContentType="image/jpeg"/>
  <Override PartName="/ppt/media/image54.gif" ContentType="image/gif"/>
  <Override PartName="/ppt/media/image5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64.png" ContentType="image/png"/>
  <Override PartName="/ppt/media/image36.gif" ContentType="image/gif"/>
  <Override PartName="/ppt/media/image21.jpeg" ContentType="image/jpeg"/>
  <Override PartName="/ppt/media/chimes.wav" ContentType="audio/x-wav"/>
  <Override PartName="/ppt/media/image17.gif" ContentType="image/gif"/>
  <Override PartName="/ppt/media/image41.jpeg" ContentType="image/jpeg"/>
  <Override PartName="/ppt/media/image14.jpeg" ContentType="image/jpeg"/>
  <Override PartName="/ppt/media/image2.jpeg" ContentType="image/jpeg"/>
  <Override PartName="/ppt/media/hammer.wav" ContentType="audio/x-wav"/>
  <Override PartName="/ppt/media/image22.gif" ContentType="image/gif"/>
  <Override PartName="/ppt/media/image18.jpeg" ContentType="image/jpeg"/>
  <Override PartName="/ppt/media/image58.jpeg" ContentType="image/jpeg"/>
  <Override PartName="/ppt/media/wind.wav" ContentType="audio/x-wav"/>
  <Override PartName="/ppt/media/image61.png" ContentType="image/png"/>
  <Override PartName="/ppt/media/image56.gif" ContentType="image/gif"/>
  <Override PartName="/ppt/media/image16.gif" ContentType="image/gif"/>
  <Override PartName="/ppt/media/image62.jpeg" ContentType="image/jpeg"/>
  <Override PartName="/ppt/media/image60.gif" ContentType="image/gif"/>
  <Override PartName="/ppt/media/image57.jpeg" ContentType="image/jpeg"/>
  <Override PartName="/ppt/media/image26.gif" ContentType="image/gif"/>
  <Override PartName="/ppt/media/image63.jpeg" ContentType="image/jpeg"/>
  <Override PartName="/ppt/media/image59.jpeg" ContentType="image/jpeg"/>
  <Override PartName="/ppt/media/image28.gif" ContentType="image/gif"/>
  <Override PartName="/ppt/media/image23.gif" ContentType="image/gif"/>
  <Override PartName="/ppt/media/image25.gif" ContentType="image/gif"/>
  <Override PartName="/ppt/media/image43.jpeg" ContentType="image/jpeg"/>
  <Override PartName="/ppt/media/breeze.wav" ContentType="audio/x-wav"/>
  <Override PartName="/ppt/media/image24.gif" ContentType="image/gif"/>
  <Override PartName="/ppt/media/image19.gif" ContentType="image/gif"/>
  <Override PartName="/ppt/media/image7.gif" ContentType="image/gif"/>
  <Override PartName="/ppt/media/image5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12.gif" ContentType="image/gif"/>
  <Override PartName="/ppt/media/image49.jpeg" ContentType="image/jpeg"/>
  <Override PartName="/ppt/media/image8.gif" ContentType="image/gif"/>
  <Override PartName="/ppt/media/image4.png" ContentType="image/png"/>
  <Override PartName="/ppt/media/image13.gif" ContentType="image/gif"/>
  <Override PartName="/ppt/media/image48.jpeg" ContentType="image/jpeg"/>
  <Override PartName="/ppt/media/image6.gif" ContentType="image/gif"/>
  <Override PartName="/ppt/media/image9.png" ContentType="image/png"/>
  <Override PartName="/ppt/media/image11.jpeg" ContentType="image/jpeg"/>
  <Override PartName="/ppt/media/image31.gif" ContentType="image/gif"/>
  <Override PartName="/ppt/media/image30.gif" ContentType="image/gif"/>
  <Override PartName="/ppt/media/image32.gif" ContentType="image/gif"/>
  <Override PartName="/ppt/media/image33.gif" ContentType="image/gif"/>
  <Override PartName="/ppt/media/image34.gif" ContentType="image/gif"/>
  <Override PartName="/ppt/media/image38.jpeg" ContentType="image/jpeg"/>
  <Override PartName="/ppt/media/bomb.wav" ContentType="audio/x-wav"/>
  <Override PartName="/ppt/media/image5.png" ContentType="image/png"/>
  <Override PartName="/ppt/media/image3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576-AD42-4EE7-9EB8-015CA9C9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295-BC89-4FC1-B55B-270F8F00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E9A-8887-4535-A0C9-BFA9C556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B7B-B8B8-47FC-8672-35F72C0B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771-2A8A-496C-BAFA-5C2F1F50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2E5-F140-44AA-A6F2-41D9561D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04D-A7A2-49CA-8A88-A32BAB29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CFE-F568-489D-8C78-8C68818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143-B838-4B43-8865-2BF3E7A8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F5E-95C0-4D17-B338-1957D1E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9C8-3D93-4052-8764-1B473AAA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587-AA58-4027-90E4-6EC5635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26C5-ED5E-4068-A76D-407A4FCDE37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8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2.gif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jpeg"/><Relationship Id="rId8" Type="http://schemas.openxmlformats.org/officeDocument/2006/relationships/image" Target="../media/image17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audio" Target="../media/breeze.wav"/><Relationship Id="rId17" Type="http://schemas.openxmlformats.org/officeDocument/2006/relationships/audio" Target="../media/breeze.wav"/><Relationship Id="rId18" Type="http://schemas.openxmlformats.org/officeDocument/2006/relationships/audio" Target="../media/breeze.wav"/><Relationship Id="rId19" Type="http://schemas.openxmlformats.org/officeDocument/2006/relationships/audio" Target="../media/hammer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2.gi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animationlibrary.com/animation/29100/Blue_car/" TargetMode="External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33.gif"/><Relationship Id="rId12" Type="http://schemas.openxmlformats.org/officeDocument/2006/relationships/image" Target="../media/image34.gif"/><Relationship Id="rId13" Type="http://schemas.openxmlformats.org/officeDocument/2006/relationships/image" Target="../media/image35.gif"/><Relationship Id="rId14" Type="http://schemas.openxmlformats.org/officeDocument/2006/relationships/image" Target="../media/image36.gif"/><Relationship Id="rId15" Type="http://schemas.openxmlformats.org/officeDocument/2006/relationships/image" Target="../media/image37.jpeg"/><Relationship Id="rId16" Type="http://schemas.openxmlformats.org/officeDocument/2006/relationships/image" Target="../media/image9.png"/><Relationship Id="rId17" Type="http://schemas.openxmlformats.org/officeDocument/2006/relationships/audio" Target="../media/bomb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findtarget.com/img.php?THUMBNAIL_URL=http%3A%2F%2Fimgtn1.ask.com%2Fts%3Ft%3D13140845963035169220%26amp%3Bpid%3D23296%26amp%3Bppid%3D13&amp;IM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littletongov.org%2Fcityclerk%2Fpassport.jpg&amp;P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xanga.com%2FAUNT_JEMIMA_4_U&amp;q=passport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search.findtarget.com/img.php?THUMBNAIL_URL=http%3A%2F%2Fimgtn4.ask.com%2Fts%3Ft%3D11782950468808511390%26amp%3Bpid%3D23040%26amp%3Bppid%3D9&amp;IM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pp-small-mexpass1.jpg&amp;P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&amp;q=passport" TargetMode="External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hyperlink" Target="http://www.eurekastreet.com.au/uploads/image/chrisjohnstonartwork/1819/cjohnstonimmigrationscloseddoorl.jpg" TargetMode="External"/><Relationship Id="rId10" Type="http://schemas.openxmlformats.org/officeDocument/2006/relationships/image" Target="../media/image53.jpeg"/><Relationship Id="rId11" Type="http://schemas.openxmlformats.org/officeDocument/2006/relationships/image" Target="../media/image54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56.gif"/><Relationship Id="rId16" Type="http://schemas.openxmlformats.org/officeDocument/2006/relationships/image" Target="../media/image57.jpeg"/><Relationship Id="rId17" Type="http://schemas.openxmlformats.org/officeDocument/2006/relationships/image" Target="../media/image56.gif"/><Relationship Id="rId18" Type="http://schemas.openxmlformats.org/officeDocument/2006/relationships/image" Target="../media/image9.png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here the Wild Things Are"/>
          <p:cNvPicPr/>
          <p:nvPr/>
        </p:nvPicPr>
        <p:blipFill>
          <a:blip r:embed="rId1"/>
          <a:stretch/>
        </p:blipFill>
        <p:spPr>
          <a:xfrm>
            <a:off x="1187280" y="0"/>
            <a:ext cx="6553440" cy="4579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Snowy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457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 rot="898200">
            <a:off x="971640" y="836280"/>
            <a:ext cx="3571920" cy="315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mph" presetID="6" repeatCount="3000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20" dur="3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52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26" nodeType="after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1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700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53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2" nodeType="afterEffect" fill="hold" presetClass="emph" presetID="8" repeatCount="5000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1500"/>
                            </p:stCondLst>
                            <p:childTnLst>
                              <p:par>
                                <p:cTn id="55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0500"/>
                            </p:stCondLst>
                            <p:childTnLst>
                              <p:par>
                                <p:cTn id="554" nodeType="afterEffect" fill="hold" presetClass="exit" presetID="2" presetSubtype="8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71640" y="4149720"/>
            <a:ext cx="3745080" cy="270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8000" y="46530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372440" y="4800600"/>
            <a:ext cx="1771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772320" cy="53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484360" cy="2665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0920" y="393372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67120" y="4816440"/>
            <a:ext cx="33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15540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ree blind mic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See how they run!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ey all ran after a farmer's w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Who cut off their tails with a carving knife.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Did you ever see such a sight in your l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As three blind mic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5040" y="4724280"/>
            <a:ext cx="3090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ree Mice Animation / Gif"/>
          <p:cNvPicPr/>
          <p:nvPr/>
        </p:nvPicPr>
        <p:blipFill>
          <a:blip r:embed="rId4"/>
          <a:stretch/>
        </p:blipFill>
        <p:spPr>
          <a:xfrm>
            <a:off x="2627280" y="148428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ree Mice Animation / Gif"/>
          <p:cNvPicPr/>
          <p:nvPr/>
        </p:nvPicPr>
        <p:blipFill>
          <a:blip r:embed="rId5"/>
          <a:stretch/>
        </p:blipFill>
        <p:spPr>
          <a:xfrm>
            <a:off x="7524720" y="11592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ree Mice Animation / Gif"/>
          <p:cNvPicPr/>
          <p:nvPr/>
        </p:nvPicPr>
        <p:blipFill>
          <a:blip r:embed="rId6"/>
          <a:stretch/>
        </p:blipFill>
        <p:spPr>
          <a:xfrm>
            <a:off x="324000" y="2781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ree Mice Animation / Gif"/>
          <p:cNvPicPr/>
          <p:nvPr/>
        </p:nvPicPr>
        <p:blipFill>
          <a:blip r:embed="rId7"/>
          <a:stretch/>
        </p:blipFill>
        <p:spPr>
          <a:xfrm>
            <a:off x="3492360" y="414972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ree Mice Animation / Gif"/>
          <p:cNvPicPr/>
          <p:nvPr/>
        </p:nvPicPr>
        <p:blipFill>
          <a:blip r:embed="rId8"/>
          <a:stretch/>
        </p:blipFill>
        <p:spPr>
          <a:xfrm>
            <a:off x="5148360" y="2997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940360" y="5950080"/>
            <a:ext cx="1152720" cy="74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ree Mice Animation / Gif"/>
          <p:cNvPicPr/>
          <p:nvPr/>
        </p:nvPicPr>
        <p:blipFill>
          <a:blip r:embed="rId10"/>
          <a:stretch/>
        </p:blipFill>
        <p:spPr>
          <a:xfrm>
            <a:off x="2268360" y="619128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ree Mice Animation / Gif"/>
          <p:cNvPicPr/>
          <p:nvPr/>
        </p:nvPicPr>
        <p:blipFill>
          <a:blip r:embed="rId11"/>
          <a:stretch/>
        </p:blipFill>
        <p:spPr>
          <a:xfrm>
            <a:off x="4427640" y="5445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ree Mice Animation / Gif"/>
          <p:cNvPicPr/>
          <p:nvPr/>
        </p:nvPicPr>
        <p:blipFill>
          <a:blip r:embed="rId12"/>
          <a:stretch/>
        </p:blipFill>
        <p:spPr>
          <a:xfrm>
            <a:off x="6804000" y="1413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700360" y="0"/>
            <a:ext cx="104760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" presetSubtype="12" repeatCount="100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81560" y="115920"/>
            <a:ext cx="4762440" cy="635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122640"/>
            <a:ext cx="4284720" cy="3735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16360" y="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632720" y="5634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3280" y="3284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8532720" y="141300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900000" y="476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763640" y="105264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771640" y="155736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6443640" y="414972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213372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292720" y="4437000"/>
            <a:ext cx="476280" cy="9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7380360" y="2924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179280" y="5516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03" nodeType="afterEffect" fill="hold" presetClass="exit" presetID="2" presetSubtype="6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8" nodeType="afterEffect" fill="hold" presetClass="exit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163836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ree billy goats gruff and troll"/>
          <p:cNvPicPr/>
          <p:nvPr/>
        </p:nvPicPr>
        <p:blipFill>
          <a:blip r:embed="rId4"/>
          <a:stretch/>
        </p:blipFill>
        <p:spPr>
          <a:xfrm>
            <a:off x="1476360" y="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285264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524480" y="0"/>
            <a:ext cx="4619520" cy="4762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1258920" y="537372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740720" y="1916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164360" y="386064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5148360" y="44370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3203640" y="40766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1619280" y="335772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3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4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4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ntr" presetID="30" repeatCount="indefinite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8" nodeType="afterEffect" fill="hold" presetClass="entr" presetID="43" repeatCount="indefinite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38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24360" y="0"/>
            <a:ext cx="4319640" cy="5896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987640" y="83664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843280" y="522936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12000" y="306864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435640" y="350028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16360" y="4437000"/>
            <a:ext cx="106704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xit" presetID="2" presetSubtype="6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xit" presetID="2" presetSubtype="6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2c07"/>
                </a:solidFill>
                <a:latin typeface="Baskerville Old Face"/>
              </a:rPr>
              <a:t>Community Help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122904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Blue car">
            <a:hlinkClick r:id="rId2"/>
          </p:cNvPr>
          <p:cNvPicPr/>
          <p:nvPr/>
        </p:nvPicPr>
        <p:blipFill>
          <a:blip r:embed="rId3"/>
          <a:stretch/>
        </p:blipFill>
        <p:spPr>
          <a:xfrm rot="20857800">
            <a:off x="0" y="115560"/>
            <a:ext cx="95256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p directs Animation"/>
          <p:cNvPicPr/>
          <p:nvPr/>
        </p:nvPicPr>
        <p:blipFill>
          <a:blip r:embed="rId4"/>
          <a:stretch/>
        </p:blipFill>
        <p:spPr>
          <a:xfrm>
            <a:off x="7334280" y="2276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hase Animation"/>
          <p:cNvPicPr/>
          <p:nvPr/>
        </p:nvPicPr>
        <p:blipFill>
          <a:blip r:embed="rId5"/>
          <a:stretch/>
        </p:blipFill>
        <p:spPr>
          <a:xfrm>
            <a:off x="5334120" y="364500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mbulance hits man Animation"/>
          <p:cNvPicPr/>
          <p:nvPr/>
        </p:nvPicPr>
        <p:blipFill>
          <a:blip r:embed="rId6"/>
          <a:stretch/>
        </p:blipFill>
        <p:spPr>
          <a:xfrm>
            <a:off x="108000" y="3573360"/>
            <a:ext cx="5286240" cy="571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Doctor 2 Animation"/>
          <p:cNvPicPr/>
          <p:nvPr/>
        </p:nvPicPr>
        <p:blipFill>
          <a:blip r:embed="rId7"/>
          <a:stretch/>
        </p:blipFill>
        <p:spPr>
          <a:xfrm>
            <a:off x="1835280" y="502920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Boy x-rayed Animation"/>
          <p:cNvPicPr/>
          <p:nvPr/>
        </p:nvPicPr>
        <p:blipFill>
          <a:blip r:embed="rId8"/>
          <a:stretch/>
        </p:blipFill>
        <p:spPr>
          <a:xfrm>
            <a:off x="179280" y="5084640"/>
            <a:ext cx="157176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Emergency cars Animation"/>
          <p:cNvPicPr/>
          <p:nvPr/>
        </p:nvPicPr>
        <p:blipFill>
          <a:blip r:embed="rId9"/>
          <a:stretch/>
        </p:blipFill>
        <p:spPr>
          <a:xfrm>
            <a:off x="468360" y="1413000"/>
            <a:ext cx="58197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Professor 3 Animation"/>
          <p:cNvPicPr/>
          <p:nvPr/>
        </p:nvPicPr>
        <p:blipFill>
          <a:blip r:embed="rId10"/>
          <a:stretch/>
        </p:blipFill>
        <p:spPr>
          <a:xfrm>
            <a:off x="6227640" y="4221000"/>
            <a:ext cx="1619280" cy="181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trict teacher Animation"/>
          <p:cNvPicPr/>
          <p:nvPr/>
        </p:nvPicPr>
        <p:blipFill>
          <a:blip r:embed="rId11"/>
          <a:stretch/>
        </p:blipFill>
        <p:spPr>
          <a:xfrm>
            <a:off x="8172360" y="5029200"/>
            <a:ext cx="97164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Graduate Animation"/>
          <p:cNvPicPr/>
          <p:nvPr/>
        </p:nvPicPr>
        <p:blipFill>
          <a:blip r:embed="rId12"/>
          <a:stretch/>
        </p:blipFill>
        <p:spPr>
          <a:xfrm>
            <a:off x="6948360" y="5300640"/>
            <a:ext cx="14004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Cop in car 2 Animation"/>
          <p:cNvPicPr/>
          <p:nvPr/>
        </p:nvPicPr>
        <p:blipFill>
          <a:blip r:embed="rId13"/>
          <a:stretch/>
        </p:blipFill>
        <p:spPr>
          <a:xfrm rot="732600">
            <a:off x="5292360" y="836640"/>
            <a:ext cx="385128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re alarm Animation"/>
          <p:cNvPicPr/>
          <p:nvPr/>
        </p:nvPicPr>
        <p:blipFill>
          <a:blip r:embed="rId14"/>
          <a:stretch/>
        </p:blipFill>
        <p:spPr>
          <a:xfrm>
            <a:off x="324000" y="1989000"/>
            <a:ext cx="1361880" cy="1543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2771640" y="4292640"/>
            <a:ext cx="3333960" cy="2381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7872E-007 L 0.20382 0.00463 E">
                                      <p:cBhvr>
                                        <p:cTn id="347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3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31" repeatCount="5000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0"/>
                            </p:stCondLst>
                            <p:childTnLst>
                              <p:par>
                                <p:cTn id="372" nodeType="afterEffect" fill="hold" presetClass="entr" presetID="29" repeatCount="500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3500"/>
                            </p:stCondLst>
                            <p:childTnLst>
                              <p:par>
                                <p:cTn id="378" nodeType="afterEffect" fill="hold" presetClass="entr" presetID="29" repeatCount="1000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70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0920" y="1159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e7120"/>
                </a:solidFill>
                <a:latin typeface="Constantia"/>
              </a:rPr>
              <a:t>Deltora Qu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067360"/>
            <a:ext cx="1547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2195640" cy="119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9640" cy="191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6216840" cy="46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4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3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3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4" dur="3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6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The Rainbow Serpent"/>
          <p:cNvPicPr/>
          <p:nvPr/>
        </p:nvPicPr>
        <p:blipFill>
          <a:blip r:embed="rId1"/>
          <a:stretch/>
        </p:blipFill>
        <p:spPr>
          <a:xfrm>
            <a:off x="2340000" y="333360"/>
            <a:ext cx="4392720" cy="43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boriginal Dance."/>
          <p:cNvPicPr/>
          <p:nvPr/>
        </p:nvPicPr>
        <p:blipFill>
          <a:blip r:embed="rId2"/>
          <a:stretch/>
        </p:blipFill>
        <p:spPr>
          <a:xfrm>
            <a:off x="250920" y="40464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ainbow Serpent"/>
          <p:cNvPicPr/>
          <p:nvPr/>
        </p:nvPicPr>
        <p:blipFill>
          <a:blip r:embed="rId3"/>
          <a:stretch/>
        </p:blipFill>
        <p:spPr>
          <a:xfrm>
            <a:off x="1692360" y="518148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Rainbow Serpent"/>
          <p:cNvPicPr/>
          <p:nvPr/>
        </p:nvPicPr>
        <p:blipFill>
          <a:blip r:embed="rId4"/>
          <a:stretch/>
        </p:blipFill>
        <p:spPr>
          <a:xfrm>
            <a:off x="4140360" y="5013360"/>
            <a:ext cx="176184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Rainbow Serpent"/>
          <p:cNvPicPr/>
          <p:nvPr/>
        </p:nvPicPr>
        <p:blipFill>
          <a:blip r:embed="rId5"/>
          <a:stretch/>
        </p:blipFill>
        <p:spPr>
          <a:xfrm>
            <a:off x="6516720" y="479736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rainbow Serpent Wagyl"/>
          <p:cNvPicPr/>
          <p:nvPr/>
        </p:nvPicPr>
        <p:blipFill>
          <a:blip r:embed="rId6"/>
          <a:stretch/>
        </p:blipFill>
        <p:spPr>
          <a:xfrm>
            <a:off x="179280" y="350028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 rainbow Serpent Wagyl"/>
          <p:cNvPicPr/>
          <p:nvPr/>
        </p:nvPicPr>
        <p:blipFill>
          <a:blip r:embed="rId7"/>
          <a:stretch/>
        </p:blipFill>
        <p:spPr>
          <a:xfrm>
            <a:off x="6732720" y="2276640"/>
            <a:ext cx="1542960" cy="161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 rainbow Serpent Wagyl"/>
          <p:cNvPicPr/>
          <p:nvPr/>
        </p:nvPicPr>
        <p:blipFill>
          <a:blip r:embed="rId8"/>
          <a:stretch/>
        </p:blipFill>
        <p:spPr>
          <a:xfrm>
            <a:off x="6588000" y="18900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 rainbow Serpent Wagyl"/>
          <p:cNvPicPr/>
          <p:nvPr/>
        </p:nvPicPr>
        <p:blipFill>
          <a:blip r:embed="rId9"/>
          <a:stretch/>
        </p:blipFill>
        <p:spPr>
          <a:xfrm>
            <a:off x="179280" y="523872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32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5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7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0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41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443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5" nodeType="afterEffect" fill="hold" presetClass="path" presetID="4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53 0.02151 C 0.09254 -0.06778 0.14254 -0.14504 0.20955 -0.15036 C 0.27361 -0.15707 0.33351 -0.09716 0.3375 -0.01041 C 0.34254 0.06939 0.30052 0.14411 0.24046 0.14943 C 0.18559 0.15336 0.13351 0.10409 0.12952 0.02961 C 0.12552 -0.0384 0.16059 -0.10248 0.21146 -0.1078 C 0.25851 -0.11173 0.30261 -0.07032 0.30556 -0.00787 C 0.30851 0.04811 0.28056 0.10271 0.23855 0.10548 C 0.20052 0.10941 0.16459 0.07749 0.16146 0.02683 C 0.15955 -0.01851 0.18056 -0.06246 0.21355 -0.065 C 0.24254 -0.06778 0.27153 -0.04372 0.27361 -0.00509 C 0.27552 0.02822 0.26059 0.06014 0.23646 0.06292 C 0.2165 0.06546 0.19549 0.05089 0.19445 0.02406 C 0.19254 0.00277 0.20052 -0.01989 0.21546 -0.02244 C 0.22761 -0.02244 0.23959 -0.01712 0.2415 -0.00255 C 0.24254 0.00694 0.24046 0.01619 0.23455 0.02012 C 0.2316 0.02151 0.22952 0.02151 0.22657 0.02012 E">
                                      <p:cBhvr>
                                        <p:cTn id="446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972 C 0.00417 -0.09901 -0.04583 -0.17627 -0.11285 -0.18159 C -0.17691 -0.1883 -0.2368 -0.12838 -0.2408 -0.04164 C -0.24583 0.03817 -0.20382 0.11288 -0.14375 0.1182 C -0.08889 0.12214 -0.0368 0.07286 -0.03281 -0.00162 C -0.02882 -0.06963 -0.06389 -0.1337 -0.11476 -0.13903 C -0.1618 -0.14296 -0.2059 -0.10155 -0.20885 -0.03909 C -0.2118 0.01689 -0.18385 0.07148 -0.14184 0.07425 C -0.10382 0.07819 -0.06788 0.04626 -0.06476 -0.0044 C -0.06285 -0.04974 -0.08385 -0.09369 -0.11684 -0.09623 C -0.14583 -0.09901 -0.17482 -0.07495 -0.17691 -0.03632 C -0.17882 -0.00301 -0.16389 0.02891 -0.13976 0.03169 C -0.11979 0.03423 -0.09878 0.01966 -0.09774 -0.00717 C -0.09583 -0.02845 -0.10382 -0.05112 -0.11875 -0.05367 C -0.1309 -0.05367 -0.14288 -0.04835 -0.14479 -0.03377 C -0.14583 -0.02429 -0.14375 -0.01504 -0.13785 -0.0111 C -0.13489 -0.00972 -0.13281 -0.00972 -0.12986 -0.0111 E">
                                      <p:cBhvr>
                                        <p:cTn id="44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372360" y="4076640"/>
            <a:ext cx="2612880" cy="2771280"/>
            <a:chOff x="6372360" y="4076640"/>
            <a:chExt cx="2612880" cy="2771280"/>
          </a:xfrm>
        </p:grpSpPr>
        <p:pic>
          <p:nvPicPr>
            <p:cNvPr id="13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 rot="20414400">
              <a:off x="7740360" y="5516280"/>
              <a:ext cx="8762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956720" y="4076640"/>
              <a:ext cx="10285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 rot="19740600">
              <a:off x="6659640" y="5084280"/>
              <a:ext cx="900000" cy="136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419640" y="836640"/>
            <a:ext cx="2743200" cy="1971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syndetics-lc"/>
          <p:cNvPicPr/>
          <p:nvPr/>
        </p:nvPicPr>
        <p:blipFill>
          <a:blip r:embed="rId7"/>
          <a:stretch/>
        </p:blipFill>
        <p:spPr>
          <a:xfrm rot="1073400">
            <a:off x="6156000" y="1341360"/>
            <a:ext cx="2303280" cy="252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71640" y="1159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2c07"/>
                </a:solidFill>
                <a:latin typeface="Baskerville Old Face"/>
              </a:rPr>
              <a:t>I M M I G R A T I O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 rot="589800">
            <a:off x="755640" y="2133360"/>
            <a:ext cx="2857680" cy="307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'Immigration's Closed Door', by Chris Johnst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08360" y="42210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 rot="1301400">
            <a:off x="250560" y="692280"/>
            <a:ext cx="2190600" cy="163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 rot="19362600">
            <a:off x="396720" y="5300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 rot="19652400">
            <a:off x="2916360" y="450864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4"/>
          <a:stretch/>
        </p:blipFill>
        <p:spPr>
          <a:xfrm rot="19369200">
            <a:off x="6227280" y="3933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"/>
          <a:stretch/>
        </p:blipFill>
        <p:spPr>
          <a:xfrm>
            <a:off x="7886880" y="11592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6"/>
          <a:stretch/>
        </p:blipFill>
        <p:spPr>
          <a:xfrm rot="779400">
            <a:off x="7380360" y="4797000"/>
            <a:ext cx="1619280" cy="1067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7"/>
          <a:stretch/>
        </p:blipFill>
        <p:spPr>
          <a:xfrm>
            <a:off x="4284720" y="278136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8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7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7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15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115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5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7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2:37:40Z</dcterms:created>
  <dc:creator>voe</dc:creator>
  <dc:description/>
  <dc:language>en-US</dc:language>
  <cp:lastModifiedBy>Wesley College</cp:lastModifiedBy>
  <dcterms:modified xsi:type="dcterms:W3CDTF">2010-08-16T22:33:48Z</dcterms:modified>
  <cp:revision>44</cp:revision>
  <dc:subject/>
  <dc:title>Slide 1</dc:title>
</cp:coreProperties>
</file>