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gif" ContentType="image/gif"/>
  <Override PartName="/ppt/media/image46.jpeg" ContentType="image/jpeg"/>
  <Override PartName="/ppt/media/image53.jpeg" ContentType="image/jpeg"/>
  <Override PartName="/ppt/media/image50.gif" ContentType="image/gif"/>
  <Override PartName="/ppt/media/image47.jpeg" ContentType="image/jpeg"/>
  <Override PartName="/ppt/media/image45.jpeg" ContentType="image/jpeg"/>
  <Override PartName="/ppt/media/image44.jpeg" ContentType="image/jpeg"/>
  <Override PartName="/ppt/media/image35.gif" ContentType="image/gif"/>
  <Override PartName="/ppt/media/image42.png" ContentType="image/png"/>
  <Override PartName="/ppt/media/image40.jpeg" ContentType="image/jpeg"/>
  <Override PartName="/ppt/media/image10.png" ContentType="image/png"/>
  <Override PartName="/ppt/media/image1.jpeg" ContentType="image/jpeg"/>
  <Override PartName="/ppt/media/image54.gif" ContentType="image/gif"/>
  <Override PartName="/ppt/media/image51.jpeg" ContentType="image/jpeg"/>
  <Override PartName="/ppt/media/image27.gif" ContentType="image/gif"/>
  <Override PartName="/ppt/media/image29.gif" ContentType="image/gif"/>
  <Override PartName="/ppt/media/image15.jpeg" ContentType="image/jpeg"/>
  <Override PartName="/ppt/media/image64.png" ContentType="image/png"/>
  <Override PartName="/ppt/media/image36.gif" ContentType="image/gif"/>
  <Override PartName="/ppt/media/image21.jpeg" ContentType="image/jpeg"/>
  <Override PartName="/ppt/media/chimes.wav" ContentType="audio/x-wav"/>
  <Override PartName="/ppt/media/image17.gif" ContentType="image/gif"/>
  <Override PartName="/ppt/media/image41.jpeg" ContentType="image/jpeg"/>
  <Override PartName="/ppt/media/image14.jpeg" ContentType="image/jpeg"/>
  <Override PartName="/ppt/media/image2.jpeg" ContentType="image/jpeg"/>
  <Override PartName="/ppt/media/hammer.wav" ContentType="audio/x-wav"/>
  <Override PartName="/ppt/media/image22.gif" ContentType="image/gif"/>
  <Override PartName="/ppt/media/image18.jpeg" ContentType="image/jpeg"/>
  <Override PartName="/ppt/media/image58.jpeg" ContentType="image/jpeg"/>
  <Override PartName="/ppt/media/wind.wav" ContentType="audio/x-wav"/>
  <Override PartName="/ppt/media/image61.png" ContentType="image/png"/>
  <Override PartName="/ppt/media/image56.gif" ContentType="image/gif"/>
  <Override PartName="/ppt/media/image16.gif" ContentType="image/gif"/>
  <Override PartName="/ppt/media/image62.jpeg" ContentType="image/jpeg"/>
  <Override PartName="/ppt/media/image60.gif" ContentType="image/gif"/>
  <Override PartName="/ppt/media/image57.jpeg" ContentType="image/jpeg"/>
  <Override PartName="/ppt/media/image26.gif" ContentType="image/gif"/>
  <Override PartName="/ppt/media/image63.jpeg" ContentType="image/jpeg"/>
  <Override PartName="/ppt/media/image59.jpeg" ContentType="image/jpeg"/>
  <Override PartName="/ppt/media/image28.gif" ContentType="image/gif"/>
  <Override PartName="/ppt/media/image23.gif" ContentType="image/gif"/>
  <Override PartName="/ppt/media/image25.gif" ContentType="image/gif"/>
  <Override PartName="/ppt/media/image43.jpeg" ContentType="image/jpeg"/>
  <Override PartName="/ppt/media/breeze.wav" ContentType="audio/x-wav"/>
  <Override PartName="/ppt/media/image24.gif" ContentType="image/gif"/>
  <Override PartName="/ppt/media/image19.gif" ContentType="image/gif"/>
  <Override PartName="/ppt/media/image7.gif" ContentType="image/gif"/>
  <Override PartName="/ppt/media/image52.jpeg" ContentType="image/jpeg"/>
  <Override PartName="/ppt/media/image3.jpeg" ContentType="image/jpeg"/>
  <Override PartName="/ppt/media/image20.png" ContentType="image/png"/>
  <Override PartName="/ppt/media/image37.jpeg" ContentType="image/jpeg"/>
  <Override PartName="/ppt/media/image12.gif" ContentType="image/gif"/>
  <Override PartName="/ppt/media/image49.jpeg" ContentType="image/jpeg"/>
  <Override PartName="/ppt/media/image8.gif" ContentType="image/gif"/>
  <Override PartName="/ppt/media/image4.png" ContentType="image/png"/>
  <Override PartName="/ppt/media/image13.gif" ContentType="image/gif"/>
  <Override PartName="/ppt/media/image48.jpeg" ContentType="image/jpeg"/>
  <Override PartName="/ppt/media/image6.gif" ContentType="image/gif"/>
  <Override PartName="/ppt/media/image9.png" ContentType="image/png"/>
  <Override PartName="/ppt/media/image11.jpeg" ContentType="image/jpeg"/>
  <Override PartName="/ppt/media/image31.gif" ContentType="image/gif"/>
  <Override PartName="/ppt/media/image30.gif" ContentType="image/gif"/>
  <Override PartName="/ppt/media/image32.gif" ContentType="image/gif"/>
  <Override PartName="/ppt/media/image33.gif" ContentType="image/gif"/>
  <Override PartName="/ppt/media/image34.gif" ContentType="image/gif"/>
  <Override PartName="/ppt/media/image38.jpeg" ContentType="image/jpeg"/>
  <Override PartName="/ppt/media/bomb.wav" ContentType="audio/x-wav"/>
  <Override PartName="/ppt/media/image5.png" ContentType="image/png"/>
  <Override PartName="/ppt/media/image3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B8E2-94FF-47F3-9905-B4ADFE19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70C5-A07D-4DBF-8EBD-82F21F46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D32-D052-4A57-8F8B-29CADBBF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B53D-7921-4656-B761-FEA0466D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C14-B938-4473-99FC-87CD50AA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7E16-6141-41F3-88CE-CB71B9CC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B9A-4B0B-4F72-AC31-7C7FE3BF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4A2-5023-4764-98B4-968036FF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0439-C8E1-4EDD-90E5-296033BA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92E6-756A-48F3-8A00-0BF2F85A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544C-749A-45DE-AA28-3FA5029F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A50-BFD7-4077-B26F-B854C544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C9AA-3091-4C5F-A968-1E2CEC73D854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gif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image" Target="../media/image6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7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image" Target="../media/image8.gif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2.gif"/><Relationship Id="rId13" Type="http://schemas.openxmlformats.org/officeDocument/2006/relationships/image" Target="../media/image13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image" Target="../media/image12.gif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8.jpeg"/><Relationship Id="rId8" Type="http://schemas.openxmlformats.org/officeDocument/2006/relationships/image" Target="../media/image17.gif"/><Relationship Id="rId9" Type="http://schemas.openxmlformats.org/officeDocument/2006/relationships/image" Target="../media/image19.gif"/><Relationship Id="rId10" Type="http://schemas.openxmlformats.org/officeDocument/2006/relationships/image" Target="../media/image19.gif"/><Relationship Id="rId11" Type="http://schemas.openxmlformats.org/officeDocument/2006/relationships/image" Target="../media/image19.gif"/><Relationship Id="rId12" Type="http://schemas.openxmlformats.org/officeDocument/2006/relationships/image" Target="../media/image19.gif"/><Relationship Id="rId13" Type="http://schemas.openxmlformats.org/officeDocument/2006/relationships/image" Target="../media/image19.gif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audio" Target="../media/breeze.wav"/><Relationship Id="rId17" Type="http://schemas.openxmlformats.org/officeDocument/2006/relationships/audio" Target="../media/breeze.wav"/><Relationship Id="rId18" Type="http://schemas.openxmlformats.org/officeDocument/2006/relationships/audio" Target="../media/breeze.wav"/><Relationship Id="rId19" Type="http://schemas.openxmlformats.org/officeDocument/2006/relationships/audio" Target="../media/hammer.wav"/><Relationship Id="rId2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image" Target="../media/image22.gi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hyperlink" Target="http://www.animationlibrary.com/animation/29100/Blue_car/" TargetMode="External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image" Target="../media/image29.gif"/><Relationship Id="rId8" Type="http://schemas.openxmlformats.org/officeDocument/2006/relationships/image" Target="../media/image30.gif"/><Relationship Id="rId9" Type="http://schemas.openxmlformats.org/officeDocument/2006/relationships/image" Target="../media/image31.gif"/><Relationship Id="rId10" Type="http://schemas.openxmlformats.org/officeDocument/2006/relationships/image" Target="../media/image32.gif"/><Relationship Id="rId11" Type="http://schemas.openxmlformats.org/officeDocument/2006/relationships/image" Target="../media/image33.gif"/><Relationship Id="rId12" Type="http://schemas.openxmlformats.org/officeDocument/2006/relationships/image" Target="../media/image34.gif"/><Relationship Id="rId13" Type="http://schemas.openxmlformats.org/officeDocument/2006/relationships/image" Target="../media/image35.gif"/><Relationship Id="rId14" Type="http://schemas.openxmlformats.org/officeDocument/2006/relationships/image" Target="../media/image36.gif"/><Relationship Id="rId15" Type="http://schemas.openxmlformats.org/officeDocument/2006/relationships/image" Target="../media/image37.jpeg"/><Relationship Id="rId16" Type="http://schemas.openxmlformats.org/officeDocument/2006/relationships/image" Target="../media/image9.png"/><Relationship Id="rId17" Type="http://schemas.openxmlformats.org/officeDocument/2006/relationships/audio" Target="../media/bomb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5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6.jpeg"/><Relationship Id="rId8" Type="http://schemas.openxmlformats.org/officeDocument/2006/relationships/image" Target="../media/image46.jpeg"/><Relationship Id="rId9" Type="http://schemas.openxmlformats.org/officeDocument/2006/relationships/image" Target="../media/image46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earch.findtarget.com/img.php?THUMBNAIL_URL=http%3A%2F%2Fimgtn1.ask.com%2Fts%3Ft%3D13140845963035169220%26amp%3Bpid%3D23296%26amp%3Bppid%3D13&amp;IMAGE_URL=http%3A%2F%2Fwzuy1.ask.com%2Fr%3Ft%3Dp%26d%3Dsynus%26s%3Dftg%26c%3Dn9%26l%3Ddir%26o%3D0%26sv%3D0a5c4307%26ip%3Da5e4b302%26id%3D49746EBD76353A5C2105EE281A4D30CF%26q%3Dpassport%26p%3D1%26qs%3D121%26ac%3D24%26g%3D6c86Ec18GV7uwh%26en%3Dpi%26io%3D0%26b%3Dimg%26tp%3Dd%26ec%3D16%26pt%3D%26ex%3D%26url%3D%26u%3Dhttp%3A%2F%2Fwww.littletongov.org%2Fcityclerk%2Fpassport.jpg&amp;PAGE_URL=http%3A%2F%2Fwzuy1.ask.com%2Fr%3Ft%3Dp%26d%3Dsynus%26s%3Dftg%26c%3Dn9%26l%3Ddir%26o%3D0%26sv%3D0a5c4307%26ip%3Da5e4b302%26id%3D49746EBD76353A5C2105EE281A4D30CF%26q%3Dpassport%26p%3D1%26qs%3D121%26ac%3D24%26g%3D6c86Ec18GV7uwh%26en%3Dpi%26io%3D0%26b%3Dimg%26tp%3Dd%26ec%3D16%26pt%3D%26ex%3D%26url%3D%26u%3Dhttp%3A%2F%2Fwww.xanga.com%2FAUNT_JEMIMA_4_U&amp;q=passport" TargetMode="External"/><Relationship Id="rId2" Type="http://schemas.openxmlformats.org/officeDocument/2006/relationships/image" Target="../media/image47.jpeg"/><Relationship Id="rId3" Type="http://schemas.openxmlformats.org/officeDocument/2006/relationships/hyperlink" Target="http://search.findtarget.com/img.php?THUMBNAIL_URL=http%3A%2F%2Fimgtn4.ask.com%2Fts%3Ft%3D11782950468808511390%26amp%3Bpid%3D23040%26amp%3Bppid%3D9&amp;IMAGE_URL=http%3A%2F%2Fwzuy1.ask.com%2Fr%3Ft%3Dp%26d%3Dsynus%26s%3Dftg%26c%3Dn9%26l%3Ddir%26o%3D0%26sv%3D0a5c4302%26ip%3Da5e4b304%26id%3D49746EBD76353A5C2105EE281A4D30CF%26q%3Dpassport%26p%3D2%26qs%3D121%26ac%3D24%26g%3D72e7abTy%25RUqVe%26en%3Dpi%26io%3D15%26b%3Dimg%26tp%3Dd%26ec%3D16%26pt%3D%26ex%3D%26url%3D%26u%3Dhttp%3A%2F%2Fwww.indyprops.com%2Fpp-small-mexpass1.jpg&amp;PAGE_URL=http%3A%2F%2Fwzuy1.ask.com%2Fr%3Ft%3Dp%26d%3Dsynus%26s%3Dftg%26c%3Dn9%26l%3Ddir%26o%3D0%26sv%3D0a5c4302%26ip%3Da5e4b304%26id%3D49746EBD76353A5C2105EE281A4D30CF%26q%3Dpassport%26p%3D2%26qs%3D121%26ac%3D24%26g%3D72e7abTy%25RUqVe%26en%3Dpi%26io%3D15%26b%3Dimg%26tp%3Dd%26ec%3D16%26pt%3D%26ex%3D%26url%3D%26u%3Dhttp%3A%2F%2Fwww.indyprops.com%2F&amp;q=passport" TargetMode="External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gif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hyperlink" Target="http://www.eurekastreet.com.au/uploads/image/chrisjohnstonartwork/1819/cjohnstonimmigrationscloseddoorl.jpg" TargetMode="External"/><Relationship Id="rId10" Type="http://schemas.openxmlformats.org/officeDocument/2006/relationships/image" Target="../media/image53.jpeg"/><Relationship Id="rId11" Type="http://schemas.openxmlformats.org/officeDocument/2006/relationships/image" Target="../media/image54.gif"/><Relationship Id="rId12" Type="http://schemas.openxmlformats.org/officeDocument/2006/relationships/image" Target="../media/image55.gif"/><Relationship Id="rId13" Type="http://schemas.openxmlformats.org/officeDocument/2006/relationships/image" Target="../media/image55.gif"/><Relationship Id="rId14" Type="http://schemas.openxmlformats.org/officeDocument/2006/relationships/image" Target="../media/image55.gif"/><Relationship Id="rId15" Type="http://schemas.openxmlformats.org/officeDocument/2006/relationships/image" Target="../media/image56.gif"/><Relationship Id="rId16" Type="http://schemas.openxmlformats.org/officeDocument/2006/relationships/image" Target="../media/image57.jpeg"/><Relationship Id="rId17" Type="http://schemas.openxmlformats.org/officeDocument/2006/relationships/image" Target="../media/image56.gif"/><Relationship Id="rId18" Type="http://schemas.openxmlformats.org/officeDocument/2006/relationships/image" Target="../media/image9.png"/><Relationship Id="rId19" Type="http://schemas.openxmlformats.org/officeDocument/2006/relationships/audio" Target="../media/wind.wav"/><Relationship Id="rId20" Type="http://schemas.openxmlformats.org/officeDocument/2006/relationships/audio" Target="../media/wind.wav"/><Relationship Id="rId21" Type="http://schemas.openxmlformats.org/officeDocument/2006/relationships/audio" Target="../media/wind.wav"/><Relationship Id="rId2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Where the Wild Things Are"/>
          <p:cNvPicPr/>
          <p:nvPr/>
        </p:nvPicPr>
        <p:blipFill>
          <a:blip r:embed="rId1"/>
          <a:stretch/>
        </p:blipFill>
        <p:spPr>
          <a:xfrm>
            <a:off x="1187280" y="0"/>
            <a:ext cx="6553440" cy="4579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Snowy Mountains"/>
          <p:cNvPicPr/>
          <p:nvPr/>
        </p:nvPicPr>
        <p:blipFill>
          <a:blip r:embed="rId1"/>
          <a:stretch/>
        </p:blipFill>
        <p:spPr>
          <a:xfrm>
            <a:off x="0" y="0"/>
            <a:ext cx="9144000" cy="4365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4579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 rot="898200">
            <a:off x="971640" y="836280"/>
            <a:ext cx="3571920" cy="3152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0" y="4292640"/>
            <a:ext cx="9144000" cy="25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4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7" dur="5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9" nodeType="afterEffect" fill="hold" presetClass="emph" presetID="6" repeatCount="3000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20" dur="3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2" nodeType="after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slide(fromRight)" transition="out">
                                      <p:cBhvr additive="repl">
                                        <p:cTn id="523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8000"/>
                            </p:stCondLst>
                            <p:childTnLst>
                              <p:par>
                                <p:cTn id="526" nodeType="afterEffect" fill="hold" presetClass="emph" presetID="6" repeatCount="4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7" dur="1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32000"/>
                            </p:stCondLst>
                            <p:childTnLst>
                              <p:par>
                                <p:cTn id="52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1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7000"/>
                            </p:stCondLst>
                            <p:childTnLst>
                              <p:par>
                                <p:cTn id="5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4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9000"/>
                            </p:stCondLst>
                            <p:childTnLst>
                              <p:par>
                                <p:cTn id="53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4000"/>
                            </p:stCondLst>
                            <p:childTnLst>
                              <p:par>
                                <p:cTn id="542" nodeType="afterEffect" fill="hold" presetClass="emph" presetID="8" repeatCount="5000">
                                  <p:stCondLst>
                                    <p:cond delay="2500"/>
                                  </p:stCondLst>
                                  <p:childTnLst>
                                    <p:animRot by="21600000">
                                      <p:cBhvr>
                                        <p:cTn id="5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52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54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4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47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1500"/>
                            </p:stCondLst>
                            <p:childTnLst>
                              <p:par>
                                <p:cTn id="550" nodeType="afterEffect" fill="hold" presetClass="entr" presetID="1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60500"/>
                            </p:stCondLst>
                            <p:childTnLst>
                              <p:par>
                                <p:cTn id="554" nodeType="afterEffect" fill="hold" presetClass="exit" presetID="2" presetSubtype="8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5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86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71640" y="4149720"/>
            <a:ext cx="3745080" cy="2708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08000" y="4653000"/>
            <a:ext cx="1771560" cy="2057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7372440" y="4800600"/>
            <a:ext cx="177156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772320" cy="532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484360" cy="2665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50920" y="393372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67120" y="4816440"/>
            <a:ext cx="333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3155400"/>
            <a:ext cx="439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Three blind mice,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See how they run!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They all ran after a farmer's wife,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Who cut off their tails with a carving knife.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Did you ever see such a sight in your life,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Baskerville Old Face"/>
              </a:rPr>
              <a:t>As three blind mic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945040" y="4724280"/>
            <a:ext cx="309096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Free Mice Animation / Gif"/>
          <p:cNvPicPr/>
          <p:nvPr/>
        </p:nvPicPr>
        <p:blipFill>
          <a:blip r:embed="rId4"/>
          <a:stretch/>
        </p:blipFill>
        <p:spPr>
          <a:xfrm>
            <a:off x="2627280" y="148428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Free Mice Animation / Gif"/>
          <p:cNvPicPr/>
          <p:nvPr/>
        </p:nvPicPr>
        <p:blipFill>
          <a:blip r:embed="rId5"/>
          <a:stretch/>
        </p:blipFill>
        <p:spPr>
          <a:xfrm>
            <a:off x="7524720" y="11592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ree Mice Animation / Gif"/>
          <p:cNvPicPr/>
          <p:nvPr/>
        </p:nvPicPr>
        <p:blipFill>
          <a:blip r:embed="rId6"/>
          <a:stretch/>
        </p:blipFill>
        <p:spPr>
          <a:xfrm>
            <a:off x="324000" y="278136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Free Mice Animation / Gif"/>
          <p:cNvPicPr/>
          <p:nvPr/>
        </p:nvPicPr>
        <p:blipFill>
          <a:blip r:embed="rId7"/>
          <a:stretch/>
        </p:blipFill>
        <p:spPr>
          <a:xfrm>
            <a:off x="3492360" y="4149720"/>
            <a:ext cx="1333800" cy="666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Free Mice Animation / Gif"/>
          <p:cNvPicPr/>
          <p:nvPr/>
        </p:nvPicPr>
        <p:blipFill>
          <a:blip r:embed="rId8"/>
          <a:stretch/>
        </p:blipFill>
        <p:spPr>
          <a:xfrm>
            <a:off x="5148360" y="299736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5940360" y="5950080"/>
            <a:ext cx="1152720" cy="74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Free Mice Animation / Gif"/>
          <p:cNvPicPr/>
          <p:nvPr/>
        </p:nvPicPr>
        <p:blipFill>
          <a:blip r:embed="rId10"/>
          <a:stretch/>
        </p:blipFill>
        <p:spPr>
          <a:xfrm>
            <a:off x="2268360" y="6191280"/>
            <a:ext cx="1333800" cy="66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Free Mice Animation / Gif"/>
          <p:cNvPicPr/>
          <p:nvPr/>
        </p:nvPicPr>
        <p:blipFill>
          <a:blip r:embed="rId11"/>
          <a:stretch/>
        </p:blipFill>
        <p:spPr>
          <a:xfrm>
            <a:off x="4427640" y="544500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Free Mice Animation / Gif"/>
          <p:cNvPicPr/>
          <p:nvPr/>
        </p:nvPicPr>
        <p:blipFill>
          <a:blip r:embed="rId12"/>
          <a:stretch/>
        </p:blipFill>
        <p:spPr>
          <a:xfrm>
            <a:off x="6804000" y="141300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2700360" y="0"/>
            <a:ext cx="1047600" cy="619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2" presetSubtype="12" repeatCount="1000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" presetSubtype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1500"/>
                            </p:stCondLst>
                            <p:childTnLst>
                              <p:par>
                                <p:cTn id="41" nodeType="afterEffect" fill="hold" presetClass="entr" presetID="2" presetSubtype="12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381560" y="115920"/>
            <a:ext cx="4762440" cy="6353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3122640"/>
            <a:ext cx="4284720" cy="3735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50920" y="177336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916360" y="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632720" y="563400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4643280" y="328464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8532720" y="141300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900000" y="47628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1763640" y="105264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2771640" y="155736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6443640" y="414972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3635280" y="213372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5292720" y="4437000"/>
            <a:ext cx="476280" cy="943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7380360" y="2924280"/>
            <a:ext cx="476280" cy="942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179280" y="5516640"/>
            <a:ext cx="1511280" cy="1224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2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9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6000"/>
                            </p:stCondLst>
                            <p:childTnLst>
                              <p:par>
                                <p:cTn id="19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197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9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8500"/>
                            </p:stCondLst>
                            <p:childTnLst>
                              <p:par>
                                <p:cTn id="203" nodeType="afterEffect" fill="hold" presetClass="exit" presetID="2" presetSubtype="6">
                                  <p:stCondLst>
                                    <p:cond delay="6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3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7500"/>
                            </p:stCondLst>
                            <p:childTnLst>
                              <p:par>
                                <p:cTn id="208" nodeType="afterEffect" fill="hold" presetClass="exit" presetID="1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2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771640" y="0"/>
            <a:ext cx="1325520" cy="1657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-252360" y="0"/>
            <a:ext cx="1638360" cy="1700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Three billy goats gruff and troll"/>
          <p:cNvPicPr/>
          <p:nvPr/>
        </p:nvPicPr>
        <p:blipFill>
          <a:blip r:embed="rId4"/>
          <a:stretch/>
        </p:blipFill>
        <p:spPr>
          <a:xfrm>
            <a:off x="1476360" y="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924360" y="476280"/>
            <a:ext cx="733320" cy="1200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0" y="2852640"/>
            <a:ext cx="733320" cy="1200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4524480" y="0"/>
            <a:ext cx="4619520" cy="4762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1258920" y="5373720"/>
            <a:ext cx="733320" cy="1200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7740720" y="191628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0"/>
          <a:stretch/>
        </p:blipFill>
        <p:spPr>
          <a:xfrm>
            <a:off x="7164360" y="3860640"/>
            <a:ext cx="1809720" cy="1810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5148360" y="443700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2"/>
          <a:stretch/>
        </p:blipFill>
        <p:spPr>
          <a:xfrm>
            <a:off x="3203640" y="407664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3"/>
          <a:stretch/>
        </p:blipFill>
        <p:spPr>
          <a:xfrm>
            <a:off x="1619280" y="3357720"/>
            <a:ext cx="1809720" cy="1809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500"/>
                            </p:stCondLst>
                            <p:childTnLst>
                              <p:par>
                                <p:cTn id="234" nodeType="afterEffect" fill="hold" presetClass="entr" presetID="30" repeatCount="indefinite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4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4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4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4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500"/>
                            </p:stCondLst>
                            <p:childTnLst>
                              <p:par>
                                <p:cTn id="2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50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500"/>
                            </p:stCondLst>
                            <p:childTnLst>
                              <p:par>
                                <p:cTn id="269" nodeType="afterEffect" fill="hold" presetClass="entr" presetID="30" repeatCount="indefinite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4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4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4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8500"/>
                            </p:stCondLst>
                            <p:childTnLst>
                              <p:par>
                                <p:cTn id="278" nodeType="afterEffect" fill="hold" presetClass="entr" presetID="43" repeatCount="indefinite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3240" cy="6381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824360" y="0"/>
            <a:ext cx="4319640" cy="5896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987640" y="836640"/>
            <a:ext cx="180972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843280" y="5229360"/>
            <a:ext cx="180972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6012000" y="3068640"/>
            <a:ext cx="1066680" cy="1133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435640" y="3500280"/>
            <a:ext cx="1066680" cy="1133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4716360" y="4437000"/>
            <a:ext cx="1067040" cy="1133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179280" y="2637000"/>
            <a:ext cx="1809720" cy="1371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2" presetSubtype="6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1" nodeType="afterEffect" fill="hold" presetClass="exit" presetID="2" presetSubtype="6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3000"/>
                            </p:stCondLst>
                            <p:childTnLst>
                              <p:par>
                                <p:cTn id="326" nodeType="afterEffect" fill="hold" presetClass="exit" presetID="2" presetSubtype="6">
                                  <p:stCondLst>
                                    <p:cond delay="4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72c07"/>
                </a:solidFill>
                <a:latin typeface="Baskerville Old Face"/>
              </a:rPr>
              <a:t>Community Help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122904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Blue car">
            <a:hlinkClick r:id="rId2"/>
          </p:cNvPr>
          <p:cNvPicPr/>
          <p:nvPr/>
        </p:nvPicPr>
        <p:blipFill>
          <a:blip r:embed="rId3"/>
          <a:stretch/>
        </p:blipFill>
        <p:spPr>
          <a:xfrm rot="20857800">
            <a:off x="0" y="115560"/>
            <a:ext cx="952560" cy="514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Cop directs Animation"/>
          <p:cNvPicPr/>
          <p:nvPr/>
        </p:nvPicPr>
        <p:blipFill>
          <a:blip r:embed="rId4"/>
          <a:stretch/>
        </p:blipFill>
        <p:spPr>
          <a:xfrm>
            <a:off x="7334280" y="2276640"/>
            <a:ext cx="1809720" cy="1047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Chase Animation"/>
          <p:cNvPicPr/>
          <p:nvPr/>
        </p:nvPicPr>
        <p:blipFill>
          <a:blip r:embed="rId5"/>
          <a:stretch/>
        </p:blipFill>
        <p:spPr>
          <a:xfrm>
            <a:off x="5334120" y="3645000"/>
            <a:ext cx="3809880" cy="476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Ambulance hits man Animation"/>
          <p:cNvPicPr/>
          <p:nvPr/>
        </p:nvPicPr>
        <p:blipFill>
          <a:blip r:embed="rId6"/>
          <a:stretch/>
        </p:blipFill>
        <p:spPr>
          <a:xfrm>
            <a:off x="108000" y="3573360"/>
            <a:ext cx="5286240" cy="571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Doctor 2 Animation"/>
          <p:cNvPicPr/>
          <p:nvPr/>
        </p:nvPicPr>
        <p:blipFill>
          <a:blip r:embed="rId7"/>
          <a:stretch/>
        </p:blipFill>
        <p:spPr>
          <a:xfrm>
            <a:off x="1835280" y="5029200"/>
            <a:ext cx="91440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Boy x-rayed Animation"/>
          <p:cNvPicPr/>
          <p:nvPr/>
        </p:nvPicPr>
        <p:blipFill>
          <a:blip r:embed="rId8"/>
          <a:stretch/>
        </p:blipFill>
        <p:spPr>
          <a:xfrm>
            <a:off x="179280" y="5084640"/>
            <a:ext cx="1571760" cy="160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Emergency cars Animation"/>
          <p:cNvPicPr/>
          <p:nvPr/>
        </p:nvPicPr>
        <p:blipFill>
          <a:blip r:embed="rId9"/>
          <a:stretch/>
        </p:blipFill>
        <p:spPr>
          <a:xfrm>
            <a:off x="468360" y="1413000"/>
            <a:ext cx="581976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Professor 3 Animation"/>
          <p:cNvPicPr/>
          <p:nvPr/>
        </p:nvPicPr>
        <p:blipFill>
          <a:blip r:embed="rId10"/>
          <a:stretch/>
        </p:blipFill>
        <p:spPr>
          <a:xfrm>
            <a:off x="6227640" y="4221000"/>
            <a:ext cx="1619280" cy="1819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Strict teacher Animation"/>
          <p:cNvPicPr/>
          <p:nvPr/>
        </p:nvPicPr>
        <p:blipFill>
          <a:blip r:embed="rId11"/>
          <a:stretch/>
        </p:blipFill>
        <p:spPr>
          <a:xfrm>
            <a:off x="8172360" y="5029200"/>
            <a:ext cx="971640" cy="1828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Graduate Animation"/>
          <p:cNvPicPr/>
          <p:nvPr/>
        </p:nvPicPr>
        <p:blipFill>
          <a:blip r:embed="rId12"/>
          <a:stretch/>
        </p:blipFill>
        <p:spPr>
          <a:xfrm>
            <a:off x="6948360" y="5300640"/>
            <a:ext cx="140040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Cop in car 2 Animation"/>
          <p:cNvPicPr/>
          <p:nvPr/>
        </p:nvPicPr>
        <p:blipFill>
          <a:blip r:embed="rId13"/>
          <a:stretch/>
        </p:blipFill>
        <p:spPr>
          <a:xfrm rot="732600">
            <a:off x="5292360" y="836640"/>
            <a:ext cx="3851280" cy="1019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Fire alarm Animation"/>
          <p:cNvPicPr/>
          <p:nvPr/>
        </p:nvPicPr>
        <p:blipFill>
          <a:blip r:embed="rId14"/>
          <a:stretch/>
        </p:blipFill>
        <p:spPr>
          <a:xfrm>
            <a:off x="324000" y="1989000"/>
            <a:ext cx="1361880" cy="1543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5"/>
          <a:stretch/>
        </p:blipFill>
        <p:spPr>
          <a:xfrm>
            <a:off x="2771640" y="4292640"/>
            <a:ext cx="3333960" cy="2381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3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60000" y="160000"/>
                                    </p:animScale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63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97872E-007 L 0.20382 0.00463 E">
                                      <p:cBhvr>
                                        <p:cTn id="347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0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3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1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3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6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31" repeatCount="5000">
                                  <p:stCondLst>
                                    <p:cond delay="2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366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5000"/>
                            </p:stCondLst>
                            <p:childTnLst>
                              <p:par>
                                <p:cTn id="372" nodeType="afterEffect" fill="hold" presetClass="entr" presetID="29" repeatCount="5000">
                                  <p:stCondLst>
                                    <p:cond delay="3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3500"/>
                            </p:stCondLst>
                            <p:childTnLst>
                              <p:par>
                                <p:cTn id="378" nodeType="afterEffect" fill="hold" presetClass="entr" presetID="29" repeatCount="1000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1700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050920" y="11592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e7120"/>
                </a:solidFill>
                <a:latin typeface="Constantia"/>
              </a:rPr>
              <a:t>Deltora Qu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596360" y="5067360"/>
            <a:ext cx="1547640" cy="1790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5661000"/>
            <a:ext cx="2195640" cy="1197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9640" cy="1911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476360" y="1268280"/>
            <a:ext cx="6216840" cy="46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1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34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4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5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6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97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9" dur="3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1500"/>
                            </p:stCondLst>
                            <p:childTnLst>
                              <p:par>
                                <p:cTn id="40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2" dur="3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6" repeatCount="indefinite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04" dur="3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6" repeatCount="indefinite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06" dur="3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70000" y="17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The Rainbow Serpent"/>
          <p:cNvPicPr/>
          <p:nvPr/>
        </p:nvPicPr>
        <p:blipFill>
          <a:blip r:embed="rId1"/>
          <a:stretch/>
        </p:blipFill>
        <p:spPr>
          <a:xfrm>
            <a:off x="2340000" y="333360"/>
            <a:ext cx="4392720" cy="4390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Aboriginal Dance."/>
          <p:cNvPicPr/>
          <p:nvPr/>
        </p:nvPicPr>
        <p:blipFill>
          <a:blip r:embed="rId2"/>
          <a:stretch/>
        </p:blipFill>
        <p:spPr>
          <a:xfrm>
            <a:off x="250920" y="404640"/>
            <a:ext cx="2340000" cy="302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Rainbow Serpent"/>
          <p:cNvPicPr/>
          <p:nvPr/>
        </p:nvPicPr>
        <p:blipFill>
          <a:blip r:embed="rId3"/>
          <a:stretch/>
        </p:blipFill>
        <p:spPr>
          <a:xfrm>
            <a:off x="1692360" y="5181480"/>
            <a:ext cx="1762200" cy="1676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Rainbow Serpent"/>
          <p:cNvPicPr/>
          <p:nvPr/>
        </p:nvPicPr>
        <p:blipFill>
          <a:blip r:embed="rId4"/>
          <a:stretch/>
        </p:blipFill>
        <p:spPr>
          <a:xfrm>
            <a:off x="4140360" y="5013360"/>
            <a:ext cx="1761840" cy="1676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Rainbow Serpent"/>
          <p:cNvPicPr/>
          <p:nvPr/>
        </p:nvPicPr>
        <p:blipFill>
          <a:blip r:embed="rId5"/>
          <a:stretch/>
        </p:blipFill>
        <p:spPr>
          <a:xfrm>
            <a:off x="6516720" y="4797360"/>
            <a:ext cx="1762200" cy="1676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 rainbow Serpent Wagyl"/>
          <p:cNvPicPr/>
          <p:nvPr/>
        </p:nvPicPr>
        <p:blipFill>
          <a:blip r:embed="rId6"/>
          <a:stretch/>
        </p:blipFill>
        <p:spPr>
          <a:xfrm>
            <a:off x="179280" y="3500280"/>
            <a:ext cx="1543320" cy="1619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A rainbow Serpent Wagyl"/>
          <p:cNvPicPr/>
          <p:nvPr/>
        </p:nvPicPr>
        <p:blipFill>
          <a:blip r:embed="rId7"/>
          <a:stretch/>
        </p:blipFill>
        <p:spPr>
          <a:xfrm>
            <a:off x="6732720" y="2276640"/>
            <a:ext cx="1542960" cy="1618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 rainbow Serpent Wagyl"/>
          <p:cNvPicPr/>
          <p:nvPr/>
        </p:nvPicPr>
        <p:blipFill>
          <a:blip r:embed="rId8"/>
          <a:stretch/>
        </p:blipFill>
        <p:spPr>
          <a:xfrm>
            <a:off x="6588000" y="189000"/>
            <a:ext cx="1543320" cy="1619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A rainbow Serpent Wagyl"/>
          <p:cNvPicPr/>
          <p:nvPr/>
        </p:nvPicPr>
        <p:blipFill>
          <a:blip r:embed="rId9"/>
          <a:stretch/>
        </p:blipFill>
        <p:spPr>
          <a:xfrm>
            <a:off x="179280" y="5238720"/>
            <a:ext cx="1543320" cy="1619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3000"/>
                            </p:stCondLst>
                            <p:childTnLst>
                              <p:par>
                                <p:cTn id="431" nodeType="afterEffect" fill="hold" presetClass="path" presetID="4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7 0.046 -0.16655 0.113 -0.17188 C 0.177 -0.17854 0.237 -0.11858 0.241 -0.03198 C 0.246 0.04797 0.204 0.12258 0.144 0.12791 C 0.089 0.13191 0.037 0.08261 0.033 0.00799 C 0.029 -0.05996 0.064 -0.12391 0.115 -0.12924 C 0.162 -0.13324 0.206 -0.09194 0.209 -0.02931 C 0.212 0.02665 0.184 0.08128 0.142 0.08394 C 0.104 0.08794 0.068 0.05596 0.065 0.00533 C 0.063 -0.03997 0.084 -0.08394 0.117 -0.08661 C 0.146 -0.08927 0.175 -0.06529 0.177 -0.02665 C 0.179 0.00666 0.164 0.03864 0.14 0.0413 C 0.12 0.04397 0.099 0.02931 0.098 0.00266 C 0.096 -0.01865 0.104 -0.0413 0.119 -0.04397 C 0.131 -0.04397 0.143 -0.03864 0.145 -0.02398 C 0.146 -0.01466 0.144 -0.00533 0.138 -0.00133 C 0.135 0 0.133 0 0.13 -0.00133 E">
                                      <p:cBhvr>
                                        <p:cTn id="432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path" presetID="4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00232 C -0.02135 -0.09161 0.02865 -0.16887 0.09566 -0.17419 C 0.15972 -0.1809 0.21962 -0.12098 0.22361 -0.03424 C 0.22865 0.04557 0.18663 0.12028 0.12657 0.1256 C 0.0717 0.12954 0.01962 0.08026 0.01563 0.00578 C 0.01163 -0.06223 0.0467 -0.1263 0.09757 -0.13162 C 0.14462 -0.13556 0.18872 -0.09415 0.19167 -0.03169 C 0.19462 0.02429 0.16667 0.07888 0.12466 0.08165 C 0.08663 0.08559 0.0507 0.05366 0.04757 0.003 C 0.04566 -0.04234 0.06667 -0.08629 0.09966 -0.08883 C 0.12865 -0.09161 0.15764 -0.06755 0.15972 -0.02892 C 0.16163 0.00439 0.1467 0.03631 0.12257 0.03909 C 0.10261 0.04163 0.0816 0.02706 0.08056 0.00023 C 0.07865 -0.02105 0.08663 -0.04372 0.10157 -0.04627 C 0.11372 -0.04627 0.1257 -0.04095 0.12761 -0.02637 C 0.12865 -0.01689 0.12657 -0.00764 0.12066 -0.0037 C 0.11771 -0.00232 0.11563 -0.00232 0.11268 -0.0037 E">
                                      <p:cBhvr>
                                        <p:cTn id="435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7" nodeType="afterEffect" fill="hold" presetClass="path" presetID="4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00232 C -0.02135 -0.09161 0.02865 -0.16887 0.09566 -0.17419 C 0.15972 -0.1809 0.21962 -0.12098 0.22361 -0.03424 C 0.22865 0.04557 0.18663 0.12028 0.12657 0.1256 C 0.0717 0.12954 0.01962 0.08026 0.01563 0.00578 C 0.01163 -0.06223 0.0467 -0.1263 0.09757 -0.13162 C 0.14462 -0.13556 0.18872 -0.09415 0.19167 -0.03169 C 0.19462 0.02429 0.16667 0.07888 0.12466 0.08165 C 0.08663 0.08559 0.0507 0.05366 0.04757 0.003 C 0.04566 -0.04234 0.06667 -0.08629 0.09966 -0.08883 C 0.12865 -0.09161 0.15764 -0.06755 0.15972 -0.02892 C 0.16163 0.00439 0.1467 0.03631 0.12257 0.03909 C 0.10261 0.04163 0.0816 0.02706 0.08056 0.00023 C 0.07865 -0.02105 0.08663 -0.04372 0.10157 -0.04627 C 0.11372 -0.04627 0.1257 -0.04095 0.12761 -0.02637 C 0.12865 -0.01689 0.12657 -0.00764 0.12066 -0.0037 C 0.11771 -0.00232 0.11563 -0.00232 0.11268 -0.0037 E">
                                      <p:cBhvr>
                                        <p:cTn id="438" dur="5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0" nodeType="afterEffect" fill="hold" presetClass="path" presetID="4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7 0.046 -0.16655 0.113 -0.17188 C 0.177 -0.17854 0.237 -0.11858 0.241 -0.03198 C 0.246 0.04797 0.204 0.12258 0.144 0.12791 C 0.089 0.13191 0.037 0.08261 0.033 0.00799 C 0.029 -0.05996 0.064 -0.12391 0.115 -0.12924 C 0.162 -0.13324 0.206 -0.09194 0.209 -0.02931 C 0.212 0.02665 0.184 0.08128 0.142 0.08394 C 0.104 0.08794 0.068 0.05596 0.065 0.00533 C 0.063 -0.03997 0.084 -0.08394 0.117 -0.08661 C 0.146 -0.08927 0.175 -0.06529 0.177 -0.02665 C 0.179 0.00666 0.164 0.03864 0.14 0.0413 C 0.12 0.04397 0.099 0.02931 0.098 0.00266 C 0.096 -0.01865 0.104 -0.0413 0.119 -0.04397 C 0.131 -0.04397 0.143 -0.03864 0.145 -0.02398 C 0.146 -0.01466 0.144 -0.00533 0.138 -0.00133 C 0.135 0 0.133 0 0.13 -0.00133 E">
                                      <p:cBhvr>
                                        <p:cTn id="441" dur="5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7 -0.046 -0.16655 -0.113 -0.17188 C -0.177 -0.17854 -0.237 -0.11858 -0.241 -0.03198 C -0.246 0.04797 -0.204 0.12258 -0.144 0.12791 C -0.089 0.13191 -0.037 0.08261 -0.033 0.00799 C -0.029 -0.05996 -0.064 -0.12391 -0.115 -0.12924 C -0.162 -0.13324 -0.206 -0.09194 -0.209 -0.02931 C -0.212 0.02665 -0.184 0.08128 -0.142 0.08394 C -0.104 0.08794 -0.068 0.05596 -0.065 0.00533 C -0.063 -0.03997 -0.084 -0.08394 -0.117 -0.08661 C -0.146 -0.08927 -0.175 -0.06529 -0.177 -0.02665 C -0.179 0.00666 -0.164 0.03864 -0.14 0.0413 C -0.12 0.04397 -0.099 0.02931 -0.098 0.00266 C -0.096 -0.01865 -0.104 -0.0413 -0.119 -0.04397 C -0.131 -0.04397 -0.143 -0.03864 -0.145 -0.02398 C -0.146 -0.01466 -0.144 -0.00533 -0.138 -0.00133 C -0.135 0 -0.133 0 -0.13 -0.00133 E">
                                      <p:cBhvr>
                                        <p:cTn id="443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3000"/>
                            </p:stCondLst>
                            <p:childTnLst>
                              <p:par>
                                <p:cTn id="445" nodeType="afterEffect" fill="hold" presetClass="path" presetID="46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653 0.02151 C 0.09254 -0.06778 0.14254 -0.14504 0.20955 -0.15036 C 0.27361 -0.15707 0.33351 -0.09716 0.3375 -0.01041 C 0.34254 0.06939 0.30052 0.14411 0.24046 0.14943 C 0.18559 0.15336 0.13351 0.10409 0.12952 0.02961 C 0.12552 -0.0384 0.16059 -0.10248 0.21146 -0.1078 C 0.25851 -0.11173 0.30261 -0.07032 0.30556 -0.00787 C 0.30851 0.04811 0.28056 0.10271 0.23855 0.10548 C 0.20052 0.10941 0.16459 0.07749 0.16146 0.02683 C 0.15955 -0.01851 0.18056 -0.06246 0.21355 -0.065 C 0.24254 -0.06778 0.27153 -0.04372 0.27361 -0.00509 C 0.27552 0.02822 0.26059 0.06014 0.23646 0.06292 C 0.2165 0.06546 0.19549 0.05089 0.19445 0.02406 C 0.19254 0.00277 0.20052 -0.01989 0.21546 -0.02244 C 0.22761 -0.02244 0.23959 -0.01712 0.2415 -0.00255 C 0.24254 0.00694 0.24046 0.01619 0.23455 0.02012 C 0.2316 0.02151 0.22952 0.02151 0.22657 0.02012 E">
                                      <p:cBhvr>
                                        <p:cTn id="446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0972 C 0.00417 -0.09901 -0.04583 -0.17627 -0.11285 -0.18159 C -0.17691 -0.1883 -0.2368 -0.12838 -0.2408 -0.04164 C -0.24583 0.03817 -0.20382 0.11288 -0.14375 0.1182 C -0.08889 0.12214 -0.0368 0.07286 -0.03281 -0.00162 C -0.02882 -0.06963 -0.06389 -0.1337 -0.11476 -0.13903 C -0.1618 -0.14296 -0.2059 -0.10155 -0.20885 -0.03909 C -0.2118 0.01689 -0.18385 0.07148 -0.14184 0.07425 C -0.10382 0.07819 -0.06788 0.04626 -0.06476 -0.0044 C -0.06285 -0.04974 -0.08385 -0.09369 -0.11684 -0.09623 C -0.14583 -0.09901 -0.17482 -0.07495 -0.17691 -0.03632 C -0.17882 -0.00301 -0.16389 0.02891 -0.13976 0.03169 C -0.11979 0.03423 -0.09878 0.01966 -0.09774 -0.00717 C -0.09583 -0.02845 -0.10382 -0.05112 -0.11875 -0.05367 C -0.1309 -0.05367 -0.14288 -0.04835 -0.14479 -0.03377 C -0.14583 -0.02429 -0.14375 -0.01504 -0.13785 -0.0111 C -0.13489 -0.00972 -0.13281 -0.00972 -0.12986 -0.0111 E">
                                      <p:cBhvr>
                                        <p:cTn id="448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6372360" y="4076640"/>
            <a:ext cx="2612880" cy="2771280"/>
            <a:chOff x="6372360" y="4076640"/>
            <a:chExt cx="2612880" cy="2771280"/>
          </a:xfrm>
        </p:grpSpPr>
        <p:pic>
          <p:nvPicPr>
            <p:cNvPr id="135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 rot="20414400">
              <a:off x="7740360" y="5516280"/>
              <a:ext cx="8762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956720" y="4076640"/>
              <a:ext cx="10285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5"/>
            <a:stretch/>
          </p:blipFill>
          <p:spPr>
            <a:xfrm rot="19740600">
              <a:off x="6659640" y="5084280"/>
              <a:ext cx="900000" cy="136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419640" y="836640"/>
            <a:ext cx="2743200" cy="1971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syndetics-lc"/>
          <p:cNvPicPr/>
          <p:nvPr/>
        </p:nvPicPr>
        <p:blipFill>
          <a:blip r:embed="rId7"/>
          <a:stretch/>
        </p:blipFill>
        <p:spPr>
          <a:xfrm rot="1073400">
            <a:off x="6156000" y="1341360"/>
            <a:ext cx="2303280" cy="2521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971640" y="11592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72c07"/>
                </a:solidFill>
                <a:latin typeface="Baskerville Old Face"/>
              </a:rPr>
              <a:t>I M M I G R A T I O 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 rot="589800">
            <a:off x="755640" y="2133360"/>
            <a:ext cx="2857680" cy="3076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'Immigration's Closed Door', by Chris Johnston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708360" y="422100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 rot="1301400">
            <a:off x="250560" y="692280"/>
            <a:ext cx="2190600" cy="1638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2"/>
          <a:stretch/>
        </p:blipFill>
        <p:spPr>
          <a:xfrm rot="19362600">
            <a:off x="396720" y="530028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3"/>
          <a:stretch/>
        </p:blipFill>
        <p:spPr>
          <a:xfrm rot="19652400">
            <a:off x="2916360" y="4508640"/>
            <a:ext cx="142848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4"/>
          <a:stretch/>
        </p:blipFill>
        <p:spPr>
          <a:xfrm rot="19369200">
            <a:off x="6227280" y="393372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5"/>
          <a:stretch/>
        </p:blipFill>
        <p:spPr>
          <a:xfrm>
            <a:off x="7886880" y="115920"/>
            <a:ext cx="1257120" cy="1324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6"/>
          <a:stretch/>
        </p:blipFill>
        <p:spPr>
          <a:xfrm rot="779400">
            <a:off x="7380360" y="4797000"/>
            <a:ext cx="1619280" cy="1067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7"/>
          <a:stretch/>
        </p:blipFill>
        <p:spPr>
          <a:xfrm>
            <a:off x="4284720" y="2781360"/>
            <a:ext cx="1257120" cy="1324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8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4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0"/>
                            </p:stCondLst>
                            <p:childTnLst>
                              <p:par>
                                <p:cTn id="470" nodeType="afterEffect" fill="hold" presetClass="entr" presetID="7" presetSubtype="4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75" nodeType="afterEffect" fill="hold" presetClass="entr" presetID="7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0000"/>
                            </p:stCondLst>
                            <p:childTnLst>
                              <p:par>
                                <p:cTn id="48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15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3" dur="1155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5" dur="115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7" dur="115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02:37:40Z</dcterms:created>
  <dc:creator>voe</dc:creator>
  <dc:description/>
  <dc:language>en-US</dc:language>
  <cp:lastModifiedBy>Wesley College</cp:lastModifiedBy>
  <dcterms:modified xsi:type="dcterms:W3CDTF">2010-08-16T22:33:48Z</dcterms:modified>
  <cp:revision>44</cp:revision>
  <dc:subject/>
  <dc:title>Slide 1</dc:title>
</cp:coreProperties>
</file>